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B821-BB6D-4FF4-AA2A-5761E831E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B724-AC02-49E0-8AEE-1F9BF22EB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668853-E7F4-4D7F-8330-0D7C11203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70F795-B684-4D12-A67B-9D9A4DFB4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D6FCC1-444C-4645-AF47-382043182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10AE6C-883A-42D0-B6A8-7FD8088D2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308D1B-A92E-4C18-8715-2711D4FCA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EBD60E-E0C9-4DA1-82F5-F00BE5ED4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EE43F5-C501-46F0-9470-83B3B7B70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EC36DF-8523-4A2A-9429-16F5E11EB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621B42-8D4B-4111-8569-C661DC5C4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AA2AD6-C65A-4687-93BE-D85AA4710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32E5-C66C-4185-9086-616F671F1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8680C6-21D3-451F-B0BB-74699B8F1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278356-674B-47D7-AFB2-D6E4DFDD1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DCFD4C-632F-451E-B8DA-FE5A5960D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330C3B-EB64-4C81-8F6F-E5CEF978D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6E462C-A23F-4072-A68A-ECB2A27BE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24B628-ECED-49F1-92DA-C6473ABAF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EC85C0-17F0-4D58-A205-2942CD2EE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D909A4-3C81-49C2-B0B2-1D523545F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682377-47C0-4DDB-BFD5-87EBEECEF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D38D70-8CF7-42CF-8D30-6137BA624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25F9-A5B5-43A9-8CB3-CF3BEFED8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948899-6CC8-4A06-90A7-E252ED9D8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02D2EC-ED80-45DE-A1BB-BB2330036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5E88AB-E75A-4BD8-B045-BA620E4C8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AF82BC-7968-406C-8077-8615837B4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4296FF-0C57-4287-86FE-E9A8A7961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C8E410-E3AC-4159-8497-92FEF221A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E06D52-5909-4781-B54C-C2B5E45D4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E65EE4-281E-4727-BFB3-BB8069DEB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10AA65-CD2F-4A83-B5CC-F63A1BB0F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873F5F-0D20-49DB-B3E7-645446A45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38E1B-50E5-4CC3-91C2-9E70EEA8A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9A5010-7F93-485F-A72B-CA1CF12F1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5031CC-1D35-429A-931F-5F505F7B8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A1B3C8-0909-4D9C-AE00-65C73218A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A60E62-4BA9-45A5-8A41-6E83B52F7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73D7CF-CD8D-454F-BECC-CE96ADB75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9829B8-F0AB-4138-BDBA-E8CC9E81D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F72C28-78EE-4946-8B54-C3C4EB4D9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65C20A-BD40-44C3-9954-999B66E27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6424B4-353D-4DCF-8079-A4FBD4093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489756-7502-4372-A515-802BD211C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AA549-B23F-426A-894B-A6B209366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D85B41-90AC-49DB-9D3F-65A5CFA5A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9F1578-6C7A-4831-B07E-2AD03FE32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6E8CF8-733C-4D1C-80FD-3B8B841FD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42DD89-2823-4EAF-BD4A-8C2AC061B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9CD7CE-4E04-4BF8-A7BF-DC79DCCAC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7447D2-72B7-4622-A82E-8804B7DDA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FF218A-BF11-4933-82FE-622DB0D68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FB89AD-E334-411A-98C7-FCF69B983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4203DA-496D-40EE-A1F8-1A947ABDE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59DE36-3CDE-4AD6-93B2-448DB8804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4B371-8677-4D0F-B6F6-B6E7F5C7B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13F95B-470C-4D73-AA00-1BC780429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B8A29E-EB47-46D6-8270-CF44A1915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A35DA8-ADC3-420E-8EDA-DA5CE2D77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683F10-3B3B-4A4B-919D-B8B090E6A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047B51-8C06-4997-85C2-530DE69E2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8DCD8B-6E1C-4C0C-A770-487AD49FE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F94D64-B703-4716-B3B7-859C792A0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A361A00-7E1D-42FA-8740-D9D18151C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BF5C37-6309-4826-AD2C-811840828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987A3C6-B539-4A84-865E-C7C94FDDE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439DA-3C9D-497B-B7FD-B5112D698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FC470F-83A0-445F-ACBD-0FEFEC4FA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134BA71-F5B0-4277-B11D-2BBF2F682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767C9AB-B5BD-4E76-B0E6-BAF0E4BF6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9D7C9A-B1BD-4BA9-BBC4-7C896266E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5B4DDC-BA01-4A7C-AA9D-317CEF976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CD5021-D17E-4CB8-868A-8A8C27D9B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BFFABE-C498-48CA-8940-8C3C26BCE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BA692B-FC77-46BB-8184-6A6D59C35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004F86-74C2-4112-AFCD-62AFBF29B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EFB3361-2BA5-4BE4-B2B7-E1B849E17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E77DB-6C65-4443-BBD2-9F28EAD9A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F3216FF-F9DA-4467-9D56-E9306D74B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0C6BC1C-2E2C-4107-A045-1E660F91D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A627200-AE7F-4091-99A7-C75F21EAA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B7B97FE-F220-46E9-AD09-5650924E6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19C2568-6753-4BD3-8BBF-0D23A205C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847BA66-B414-4E09-81F1-094972262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2F52F0C-9133-49D2-A603-B24CE6439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CA209D4-805C-4B9B-9573-C253A2D49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CF111D4-A41C-4FA3-9EC1-9A5A87CE1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67D531F-D0B7-433D-8BC0-3063A03DF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788F7-6B27-45BE-BEEC-3FE22B6B2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F94F3B6-02A4-4348-82F9-1D5B749A9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722F03D-D45C-4414-A811-ED719F9C3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DD8F77E-C38F-4C75-928C-DF9DB8BE7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4DB91C7-F1C8-4C7D-B0F8-0BD6BF3DB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F1E9304-ECC6-42EE-934D-CDA21FDCC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88FD400-42FD-4A76-9868-63B269794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BBBA29A-084A-4D32-8E71-CE661C6A0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4BF3C2F-C969-46A4-B622-960B5DE39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3BA4083-0C1D-4877-B526-35953B7D7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35A785D-FE9C-434A-9B00-69B3095D1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2C868-C435-40D3-8F4A-CF8F647CE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7EEC0C3-112D-4CC4-89C7-3C0881C55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98ECFEA-45E4-46FF-96CC-DCEDB4FA8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08D0EDD-BE94-4ED4-B9CC-EEED21D71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8C6C32F-26CF-4455-840E-5B435CC29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213E002-5807-407B-8B26-7BE7F501F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2C37B3D-8BA3-469B-B20E-BE92B41A7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9CA9989-D00F-41DB-A798-A630071D8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C65507F-157D-47D3-85DE-58A567B3E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33FAC46-CD0D-4341-9035-0503A15EB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4708051-4F24-4346-B1FC-2AC397396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DDE9-8963-4813-9F5A-0B2F9AEB3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A3BB7-281F-461E-BAFB-829FC3BC0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4ED85BC-2F54-4647-937D-3E102A837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648EFE4-B404-4F87-B6A5-7F25680C5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C03B943-1888-420F-935E-40CDD90E6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B295C6B-E46E-4015-954D-9B454EF51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A02358F-D9FC-4518-8482-E5FAFB8ED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8C88DB4-1955-4630-AC30-9B6C218E3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3D7AF77-8992-4980-B1D8-6109210BC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A187D33-6676-4E4F-8F80-70AB635A2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897BB75-CF22-4768-979D-C54CD3185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D9260DD-DCDE-4C6F-83C6-855AB50A2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D640B-4019-4F3C-A25B-58116E5F7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6740EB8-684B-4BDC-B295-FF1A44DC7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8E4051C-935A-4D79-90C0-648DCE445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9EC9ABF-94F0-4EE4-A4D1-AE8614A28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EFD856E-E95C-429A-83E1-DC4443F1E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8BE37DD-04C7-4ABF-83F3-E5AE49F2D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42CBF2A-E13B-491B-B31D-7C7EF3962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219A8A2-08A4-4868-B0A3-84F4E3086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0DE23D1-C437-4529-9E4B-0E467E707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265CA74-3615-493B-ACF1-605631151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6A845D9-C6D5-4734-8958-521A2AEAD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1D686-B0F8-4193-A761-A66B4B690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BAFCF42-F2FE-4880-9146-46A647B21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54AB26E-169A-46C9-BF91-1A1C234E4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26679A8-E95C-463A-AB96-77FD45712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648467C-29F9-46F4-8E91-5211C79D4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EC08EAB-7939-44C0-ACA7-119C83D17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09D6EB2-21F1-4968-ADFA-7483AED88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011AB33-CE6F-4827-B9DD-BB6613455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CBD4A3E-ABF7-4979-A42C-EDDCB7AB0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E464183-5C29-4491-97F8-F34A9BDA0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600B4D6-7647-48CE-878F-19A90240F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1C8D1-6C27-4A49-A79E-64167AE6A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65A762C-69D3-4FF3-A161-3721289DE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B72F9BE-3327-40C3-8643-6E448EBEC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4C252C3-5366-466F-A7D2-3845CCE4B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9CE3B3C-EDB5-45C6-824D-B2B059DD9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121A70E-A167-481D-ADED-E5CF3CC41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3124E2C-4D6C-45E6-B644-8EA0BC934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6F50A24-1D7C-4B16-9C80-25F3F2BA0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76BFC39-DD4B-450B-907B-AE5AD26E6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D300F5F-3ABE-4AF7-BFFE-2A6025BAD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371E184-BF88-4054-865C-12534FA51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1A9F3-5E40-4C13-BCC0-B57494581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44C970D-918F-4640-851C-CEA4F35E4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CF0F988-1675-49CD-BEE5-7AA8C65FC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548C8B7-277D-4268-A7DC-A90EA7B99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72BD4E8-DF4B-4E27-9BBD-28674DB9C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6FB65D5-AAA6-4A2B-AE26-E3859D52C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E06D0CE-2363-46AB-8396-D7000B48D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746182C-AC82-46E7-B93A-28373227C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B3AEC96-95C6-42EA-BD24-4CA1DBD59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F8E2C88-AC35-4F56-81E2-8B82CD175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768F1CF-D644-41DC-BF0F-EA2019111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A10246-1FAC-4D8E-96D4-7771F110B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4E8D3B9-6801-44D2-AC3D-C864EDF97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9A34D75-591C-44AF-A167-E100218D0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7A9DBB3-9780-48BA-A915-47829DAF7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47D2FC-A9DC-4113-B402-923B58CD2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0325D6-DA4A-45C0-AC1A-E0E7A2591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AF6176-522D-4A39-AC2C-C660D94CC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37C05D-917B-4A3F-B3F2-6406FAD8F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D913-B9C2-45AA-878F-BE730DA2F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10B0B1-7B96-4AA4-8172-AF5C5A757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E07B8D-4366-4EA6-9FA8-B5B2E3A2D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CA7A57-3442-477B-B938-FFDFD7B30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2CF9C3-1323-4B52-B7E9-3976C80BA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BAC392-AF24-4665-8D74-6AD721D13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218CE0-1C5F-42AD-BF25-B62A72B82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F9C376-E7A6-4317-9179-F1CBAC040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9F8BF0-79AB-4927-B805-3D03D5C83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DBE227-C14D-4481-883C-C1F647172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C4BB60-E716-433D-B9C5-73F16B327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09B7-09E0-4DF8-A388-AE41CEAFA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A0282F-D1D1-4338-8D48-1FD48EA16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8EE959-BCB5-4BE0-8EAC-8FCA89C6A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1AE71C-0537-4707-9DD3-9EF9D929F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23A9B3-2827-4CAD-8CBD-8B2FCCA08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47806D-7806-44E5-A728-77E9FB9B7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10D8AF-6604-4840-B0B1-6E6E87925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F6A0D5-EF59-4E8B-A2D0-76564DAC1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B0F7AC-0BEB-4DFB-9E2B-6EBF833F0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418E51-F5FD-4719-8507-92ADA6034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510602-5758-43C8-A1C7-B03F6BE13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19D2-3948-476C-9A43-435FC4EDB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315717-C170-4F1A-8D30-49BF22E34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81C686-F053-4EBD-967A-99A312A1A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43639B-7BFA-4C5C-9B77-774D4A3C0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37BD21-02EB-4678-9972-AA2464640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5913A0-9D15-48F8-886D-02096B21B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310201-F693-40B7-A563-269943A82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C6CBC6-7980-4E0A-9693-A946C4C0E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741A84-0039-416D-BE0D-785AA1CFC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A71804-51E7-44E1-8340-14194CF80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9E864F-69D2-4E9E-87CA-663076FCC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E1EA-C011-43A6-A782-66DAE65DD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6A73A0-E573-4157-BD11-3C22C978E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3A7159-6682-4A48-9C39-2A3751BF8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DDA4E7-20F1-4EBF-A7EE-7FE88C5AD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14C494-6F4A-456C-8967-3FA01D7A8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814BE3-E23E-4739-AD94-66090C77A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3523AE-9DE4-414D-86E6-4B8BFC5C3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92F100-57FA-46B9-939A-6D1197185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98AFFC-A5E2-42A7-8601-30D541A9D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27DD0E-24A9-4997-B676-3F2B87C18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DB4537-8872-4DF9-A833-77A1F7519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227A-10D5-4415-B0FB-5F37998C8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16CA0B-EEF5-4661-8F38-27703E3CB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7F011C-4C12-4F01-BC80-BB1A3E541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406AFF-4003-46F6-8B82-DD854A4B2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2A7626-C4EF-45F4-904E-77DFE7842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64BC19-5980-4D87-8FB1-C4D7FAE45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6FFC91-8E3F-4665-90BE-16C5D05E5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AC0651-E61F-4BCE-93DC-7780F8A95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D5D309-50AC-4E84-B8EF-96A9F09E8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30D988-D1F2-4F84-929F-BB4F7A1B8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2BA5DA-430A-4982-9323-C31F81BC4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27BD-3EB8-42CE-A51F-F8693FE0A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5AB13B-C3E4-49F6-8A36-DF5BD867B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1D7CC1-E211-4FBC-92D7-8433FA59F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F6735D-5AB0-47C8-91EF-DDD21DC2C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7EA422-B264-4C6D-B06B-8AC31F9C5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FC53EF-E7A9-47B4-B758-F87A1D7FE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6F9DF8-E3E5-4263-9127-803B59802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E6D904-0E80-4201-8D85-2A09F4265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56C830-CD6B-4FD3-9935-578A326BC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05FF44-4E05-49CF-9084-CB32EC346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BFD342-53F7-4103-BADD-484D45FB3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7D19-92B3-4331-A7EF-C4D8B5FF2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F4BBD3-9768-4997-A115-AED942391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8EE7AB-1A6A-4767-B1C9-FEF3C7C2E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6030E9-46DF-44E4-8A5B-6517D70D9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00ABBA-06AB-4B58-8C6F-A5A15B7BC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E25D19-BB75-4CF8-AC5E-D4F8C7F46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F1B528-D0E9-40D9-92A9-32B5FBF09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3007FE-53EF-49EA-8723-373F30183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E4E991-E211-4987-BE35-CF9AD9522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687660-9B00-4820-BD69-7AEA4CD4A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04BC65-455A-4C02-A22F-42347A25B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BBD4E-28CD-4C00-8C3D-54383000940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873AD-B51E-4B82-B264-23866872177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BFA27-F124-4996-8D8B-F02A96A847F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14B7C-B4FE-4C0D-AC3D-164B317A6A9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092C8-7193-4635-95DD-3E904103A60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C3881-B9A5-42E5-BE93-48ACEF69B56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E979C-F129-4756-85B6-C5BD924EA25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8CCE9-4023-4BD7-A206-D9ABD56B6FB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71E72-1FF9-42F6-B1FB-9E6E89A04D8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C21F5-D113-4E06-A7B6-2F8CEBD7B3C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BE809-37FB-400D-8D14-A6909696281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8BAB4-5CF4-470C-A3B7-433C588D822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D0B7D-1A3E-4187-B330-A81029861AD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F9CE6-7420-4126-8CD6-560A61D642E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40702-D4B4-4313-9874-4C8E02BBACD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99B19-622A-4CCD-80A8-5258A2C8F44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52297-A7EB-4690-9F9D-F4DF73BF003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B7EFC-4B2B-445A-B66A-D70911A6276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53F0B-6B1C-4C9A-9A50-79E22954D45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953BC-0382-4CF9-8D43-982478F844B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FC37A-B7AB-46D0-A23B-59024E37B18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2A6A9-36E7-4402-A667-026C45297DE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594DF-0757-4435-8BF9-2C07E52196C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C9582-BA13-4386-9B74-EEEFCEDC429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79AD6-21FF-4C31-9DD5-583A31CC684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9DF58-5BC6-440C-85CA-7893C30FA76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2AAA3-ED5C-4074-BD78-932402DCE05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C5330-3122-4870-82E5-0938B42F15F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F6AFA-88C3-4BFB-A9F8-28C60E97836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39037-7204-466C-946B-F8E5C3F88B6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0416A-35F9-4580-9B17-AD0BF3AEA41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744CA-F7FB-48B8-8563-B26BE4EA9E9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110D3-F18E-434E-B9D5-BCB33F466DE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2950E-C566-43B1-9630-93A2F330E4C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FBC66-6B0A-47DE-A5E3-291AAB7DC0C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CAB7B-FD09-40CE-BBBE-F0BE3E9AC51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CB1ED-3048-41E2-AAB8-56FEBD6DC3F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D78B9-B009-4163-8F1C-40A9C425DFE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A68C9-70CE-495B-BBE4-D734A58EEEA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FFAA8-8653-4CE6-A4A5-3D3D6EFA1F5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image" Target="../media/image10.png"/><Relationship Id="rId18" Type="http://schemas.openxmlformats.org/officeDocument/2006/relationships/image" Target="../media/image10.png"/><Relationship Id="rId19" Type="http://schemas.openxmlformats.org/officeDocument/2006/relationships/image" Target="../media/image10.png"/><Relationship Id="rId20" Type="http://schemas.openxmlformats.org/officeDocument/2006/relationships/image" Target="../media/image10.png"/><Relationship Id="rId21" Type="http://schemas.openxmlformats.org/officeDocument/2006/relationships/image" Target="../media/image10.png"/><Relationship Id="rId22" Type="http://schemas.openxmlformats.org/officeDocument/2006/relationships/image" Target="../media/image10.png"/><Relationship Id="rId23" Type="http://schemas.openxmlformats.org/officeDocument/2006/relationships/image" Target="../media/image10.png"/><Relationship Id="rId24" Type="http://schemas.openxmlformats.org/officeDocument/2006/relationships/image" Target="../media/image10.png"/><Relationship Id="rId25" Type="http://schemas.openxmlformats.org/officeDocument/2006/relationships/image" Target="../media/image10.png"/><Relationship Id="rId26" Type="http://schemas.openxmlformats.org/officeDocument/2006/relationships/image" Target="../media/image10.png"/><Relationship Id="rId27" Type="http://schemas.openxmlformats.org/officeDocument/2006/relationships/image" Target="../media/image10.png"/><Relationship Id="rId28" Type="http://schemas.openxmlformats.org/officeDocument/2006/relationships/image" Target="../media/image10.png"/><Relationship Id="rId29" Type="http://schemas.openxmlformats.org/officeDocument/2006/relationships/image" Target="../media/image10.png"/><Relationship Id="rId30" Type="http://schemas.openxmlformats.org/officeDocument/2006/relationships/image" Target="../media/image10.png"/><Relationship Id="rId31" Type="http://schemas.openxmlformats.org/officeDocument/2006/relationships/image" Target="../media/image10.png"/><Relationship Id="rId32" Type="http://schemas.openxmlformats.org/officeDocument/2006/relationships/image" Target="../media/image10.png"/><Relationship Id="rId33" Type="http://schemas.openxmlformats.org/officeDocument/2006/relationships/image" Target="../media/image10.png"/><Relationship Id="rId34" Type="http://schemas.openxmlformats.org/officeDocument/2006/relationships/image" Target="../media/image10.png"/><Relationship Id="rId35" Type="http://schemas.openxmlformats.org/officeDocument/2006/relationships/image" Target="../media/image10.png"/><Relationship Id="rId36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2666880" y="3205080"/>
            <a:ext cx="381024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433440" y="781200"/>
            <a:ext cx="8277120" cy="560052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1922400" y="1298520"/>
            <a:ext cx="358920" cy="31932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4067280" y="1341360"/>
            <a:ext cx="358560" cy="31932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6156360" y="1341360"/>
            <a:ext cx="358920" cy="31932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5"/>
          <a:stretch/>
        </p:blipFill>
        <p:spPr>
          <a:xfrm>
            <a:off x="8288280" y="132732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6"/>
          <a:stretch/>
        </p:blipFill>
        <p:spPr>
          <a:xfrm>
            <a:off x="1619280" y="170028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7"/>
          <a:stretch/>
        </p:blipFill>
        <p:spPr>
          <a:xfrm>
            <a:off x="4067280" y="1773360"/>
            <a:ext cx="358560" cy="31896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8"/>
          <a:stretch/>
        </p:blipFill>
        <p:spPr>
          <a:xfrm>
            <a:off x="6156360" y="177336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9"/>
          <a:stretch/>
        </p:blipFill>
        <p:spPr>
          <a:xfrm>
            <a:off x="8388360" y="170028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10"/>
          <a:stretch/>
        </p:blipFill>
        <p:spPr>
          <a:xfrm>
            <a:off x="1149480" y="2809800"/>
            <a:ext cx="215640" cy="19224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11"/>
          <a:stretch/>
        </p:blipFill>
        <p:spPr>
          <a:xfrm>
            <a:off x="3267000" y="2824200"/>
            <a:ext cx="216000" cy="19188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12"/>
          <a:stretch/>
        </p:blipFill>
        <p:spPr>
          <a:xfrm>
            <a:off x="5364000" y="2833560"/>
            <a:ext cx="216000" cy="19224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13"/>
          <a:stretch/>
        </p:blipFill>
        <p:spPr>
          <a:xfrm>
            <a:off x="7470720" y="2833560"/>
            <a:ext cx="216000" cy="19224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14"/>
          <a:stretch/>
        </p:blipFill>
        <p:spPr>
          <a:xfrm>
            <a:off x="1144440" y="3376440"/>
            <a:ext cx="216000" cy="19224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15"/>
          <a:stretch/>
        </p:blipFill>
        <p:spPr>
          <a:xfrm>
            <a:off x="3262320" y="3390840"/>
            <a:ext cx="216000" cy="19224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16"/>
          <a:stretch/>
        </p:blipFill>
        <p:spPr>
          <a:xfrm>
            <a:off x="5359320" y="3390840"/>
            <a:ext cx="216000" cy="19224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17"/>
          <a:stretch/>
        </p:blipFill>
        <p:spPr>
          <a:xfrm>
            <a:off x="7466040" y="3390840"/>
            <a:ext cx="216000" cy="19224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18"/>
          <a:stretch/>
        </p:blipFill>
        <p:spPr>
          <a:xfrm>
            <a:off x="1825560" y="4941720"/>
            <a:ext cx="358920" cy="31932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19"/>
          <a:stretch/>
        </p:blipFill>
        <p:spPr>
          <a:xfrm>
            <a:off x="2556000" y="4941720"/>
            <a:ext cx="358560" cy="31932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20"/>
          <a:stretch/>
        </p:blipFill>
        <p:spPr>
          <a:xfrm>
            <a:off x="3328920" y="4941720"/>
            <a:ext cx="358920" cy="31932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21"/>
          <a:stretch/>
        </p:blipFill>
        <p:spPr>
          <a:xfrm>
            <a:off x="4067280" y="4941720"/>
            <a:ext cx="358560" cy="31932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22"/>
          <a:stretch/>
        </p:blipFill>
        <p:spPr>
          <a:xfrm>
            <a:off x="4788000" y="4941720"/>
            <a:ext cx="358560" cy="31932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23"/>
          <a:stretch/>
        </p:blipFill>
        <p:spPr>
          <a:xfrm>
            <a:off x="5508720" y="4941720"/>
            <a:ext cx="358560" cy="31932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24"/>
          <a:stretch/>
        </p:blipFill>
        <p:spPr>
          <a:xfrm>
            <a:off x="1835280" y="5445000"/>
            <a:ext cx="358560" cy="31932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25"/>
          <a:stretch/>
        </p:blipFill>
        <p:spPr>
          <a:xfrm>
            <a:off x="2565360" y="5445000"/>
            <a:ext cx="358920" cy="31932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26"/>
          <a:stretch/>
        </p:blipFill>
        <p:spPr>
          <a:xfrm>
            <a:off x="3338640" y="5445000"/>
            <a:ext cx="358560" cy="31932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27"/>
          <a:stretch/>
        </p:blipFill>
        <p:spPr>
          <a:xfrm>
            <a:off x="4076640" y="5445000"/>
            <a:ext cx="358920" cy="31932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28"/>
          <a:stretch/>
        </p:blipFill>
        <p:spPr>
          <a:xfrm>
            <a:off x="4797360" y="5445000"/>
            <a:ext cx="358920" cy="31932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29"/>
          <a:stretch/>
        </p:blipFill>
        <p:spPr>
          <a:xfrm>
            <a:off x="5518080" y="5445000"/>
            <a:ext cx="358920" cy="31932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30"/>
          <a:stretch/>
        </p:blipFill>
        <p:spPr>
          <a:xfrm>
            <a:off x="1835280" y="5950080"/>
            <a:ext cx="358560" cy="31896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31"/>
          <a:stretch/>
        </p:blipFill>
        <p:spPr>
          <a:xfrm>
            <a:off x="2565360" y="595008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32"/>
          <a:stretch/>
        </p:blipFill>
        <p:spPr>
          <a:xfrm>
            <a:off x="3338640" y="5950080"/>
            <a:ext cx="358560" cy="31896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33"/>
          <a:stretch/>
        </p:blipFill>
        <p:spPr>
          <a:xfrm>
            <a:off x="4076640" y="595008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34"/>
          <a:stretch/>
        </p:blipFill>
        <p:spPr>
          <a:xfrm>
            <a:off x="4797360" y="595008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" descr=""/>
          <p:cNvPicPr/>
          <p:nvPr/>
        </p:nvPicPr>
        <p:blipFill>
          <a:blip r:embed="rId35"/>
          <a:stretch/>
        </p:blipFill>
        <p:spPr>
          <a:xfrm>
            <a:off x="5518080" y="5950080"/>
            <a:ext cx="35892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6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1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6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1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6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1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6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1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6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1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6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1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6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1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6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1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6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1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6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1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6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1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7" name="图片 59410" descr=""/>
          <p:cNvPicPr/>
          <p:nvPr/>
        </p:nvPicPr>
        <p:blipFill>
          <a:blip r:embed="rId1"/>
          <a:stretch/>
        </p:blipFill>
        <p:spPr>
          <a:xfrm>
            <a:off x="128520" y="804960"/>
            <a:ext cx="8886960" cy="564840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2"/>
          <a:stretch/>
        </p:blipFill>
        <p:spPr>
          <a:xfrm>
            <a:off x="3851280" y="306864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3"/>
          <a:stretch/>
        </p:blipFill>
        <p:spPr>
          <a:xfrm>
            <a:off x="6588000" y="306864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4"/>
          <a:stretch/>
        </p:blipFill>
        <p:spPr>
          <a:xfrm>
            <a:off x="900000" y="3635280"/>
            <a:ext cx="358920" cy="31932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" descr=""/>
          <p:cNvPicPr/>
          <p:nvPr/>
        </p:nvPicPr>
        <p:blipFill>
          <a:blip r:embed="rId5"/>
          <a:stretch/>
        </p:blipFill>
        <p:spPr>
          <a:xfrm>
            <a:off x="539640" y="5613480"/>
            <a:ext cx="2303640" cy="31896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" descr=""/>
          <p:cNvPicPr/>
          <p:nvPr/>
        </p:nvPicPr>
        <p:blipFill>
          <a:blip r:embed="rId6"/>
          <a:stretch/>
        </p:blipFill>
        <p:spPr>
          <a:xfrm>
            <a:off x="539640" y="6021360"/>
            <a:ext cx="2303640" cy="318960"/>
          </a:xfrm>
          <a:prstGeom prst="rect">
            <a:avLst/>
          </a:prstGeom>
          <a:ln w="0">
            <a:noFill/>
          </a:ln>
        </p:spPr>
      </p:pic>
      <p:pic>
        <p:nvPicPr>
          <p:cNvPr id="963" name="图片 59416" descr=""/>
          <p:cNvPicPr/>
          <p:nvPr/>
        </p:nvPicPr>
        <p:blipFill>
          <a:blip r:embed="rId7"/>
          <a:stretch/>
        </p:blipFill>
        <p:spPr>
          <a:xfrm>
            <a:off x="554040" y="1916280"/>
            <a:ext cx="1628640" cy="380880"/>
          </a:xfrm>
          <a:prstGeom prst="rect">
            <a:avLst/>
          </a:prstGeom>
          <a:ln w="0">
            <a:noFill/>
          </a:ln>
        </p:spPr>
      </p:pic>
      <p:pic>
        <p:nvPicPr>
          <p:cNvPr id="964" name="图片 59417" descr=""/>
          <p:cNvPicPr/>
          <p:nvPr/>
        </p:nvPicPr>
        <p:blipFill>
          <a:blip r:embed="rId8"/>
          <a:stretch/>
        </p:blipFill>
        <p:spPr>
          <a:xfrm>
            <a:off x="3376440" y="1916280"/>
            <a:ext cx="1629000" cy="380880"/>
          </a:xfrm>
          <a:prstGeom prst="rect">
            <a:avLst/>
          </a:prstGeom>
          <a:ln w="0">
            <a:noFill/>
          </a:ln>
        </p:spPr>
      </p:pic>
      <p:pic>
        <p:nvPicPr>
          <p:cNvPr id="965" name="图片 59418" descr=""/>
          <p:cNvPicPr/>
          <p:nvPr/>
        </p:nvPicPr>
        <p:blipFill>
          <a:blip r:embed="rId9"/>
          <a:stretch/>
        </p:blipFill>
        <p:spPr>
          <a:xfrm>
            <a:off x="6199200" y="1916280"/>
            <a:ext cx="1628640" cy="380880"/>
          </a:xfrm>
          <a:prstGeom prst="rect">
            <a:avLst/>
          </a:prstGeom>
          <a:ln w="0">
            <a:noFill/>
          </a:ln>
        </p:spPr>
      </p:pic>
      <p:pic>
        <p:nvPicPr>
          <p:cNvPr id="966" name="图片 59419" descr=""/>
          <p:cNvPicPr/>
          <p:nvPr/>
        </p:nvPicPr>
        <p:blipFill>
          <a:blip r:embed="rId10"/>
          <a:stretch/>
        </p:blipFill>
        <p:spPr>
          <a:xfrm>
            <a:off x="554040" y="2449440"/>
            <a:ext cx="1628640" cy="381240"/>
          </a:xfrm>
          <a:prstGeom prst="rect">
            <a:avLst/>
          </a:prstGeom>
          <a:ln w="0">
            <a:noFill/>
          </a:ln>
        </p:spPr>
      </p:pic>
      <p:pic>
        <p:nvPicPr>
          <p:cNvPr id="967" name="图片 59420" descr=""/>
          <p:cNvPicPr/>
          <p:nvPr/>
        </p:nvPicPr>
        <p:blipFill>
          <a:blip r:embed="rId11"/>
          <a:stretch/>
        </p:blipFill>
        <p:spPr>
          <a:xfrm>
            <a:off x="3376440" y="2449440"/>
            <a:ext cx="1629000" cy="381240"/>
          </a:xfrm>
          <a:prstGeom prst="rect">
            <a:avLst/>
          </a:prstGeom>
          <a:ln w="0">
            <a:noFill/>
          </a:ln>
        </p:spPr>
      </p:pic>
      <p:pic>
        <p:nvPicPr>
          <p:cNvPr id="968" name="图片 59421" descr=""/>
          <p:cNvPicPr/>
          <p:nvPr/>
        </p:nvPicPr>
        <p:blipFill>
          <a:blip r:embed="rId12"/>
          <a:stretch/>
        </p:blipFill>
        <p:spPr>
          <a:xfrm>
            <a:off x="6199200" y="2449440"/>
            <a:ext cx="1628640" cy="3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8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3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8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3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8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3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8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3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8" dur="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3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8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9T08:09:59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